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B81-FC29-459D-9BF3-BE36D2C0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757-A9D5-4DC9-AFE5-B5016247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0C063-B933-4138-8B62-A5DB6DE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3EF1B-0CB8-42D1-BC3C-B9C4086C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D5109-1D6E-4775-A4B8-8899AA37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2A778-BDD3-4AE1-9CC4-D253A105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D4BBE-8179-45F1-9654-5923391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D9D7C-84B6-4C58-93EF-EAA75ACD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C46BD-2171-43DF-B219-B968076F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4C27F-97D8-470F-B24B-900E9B19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F0C00-FCD4-441D-A490-E219355E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F5643-13D6-4EEA-8CCF-BB234CEF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197-C41E-49DF-8125-F092AAB2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3B605-C445-47EC-A1C0-FFAF2753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03D65-198A-474A-AB54-C986B8C5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22928-4174-4CDD-86D8-73A926B3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9C33D-4DE7-47D1-B799-F0A32660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D1AEB-7772-4115-B54B-8DE9BA0F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21975-DB95-421B-9F60-1CCE808E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EECBB-CAEC-4C12-AABD-5922AFD9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2E5FA-AB74-485D-B016-4D2FD51B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64A74-73C4-4AB1-9FBE-12053F84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9F118-C366-42AF-B7B8-42C211CE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44E-87A2-466B-BB95-C1C8B266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D2846-3A80-4746-A3D2-D6640933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DF14B-02AF-4C01-85A0-4B1262C9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F462D-67F3-46D6-8B44-E6587E36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546F3-D95D-4AC3-8D76-AB5527A6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339EF-2E87-4736-9554-8FA282F3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DAF1D-9DB3-479D-8E58-0200F28D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1A5AA-51E5-4A22-AA50-7084C3AC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09E93-6F4C-4ED8-BA5E-F86CA46E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EA496-E919-4A5F-A6D4-F353EB4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3A01A-6242-4DC8-A431-6AAD20C8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DD0F-0842-40DA-A891-7D031B1F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FCF62-365A-4A5E-8BE3-F650DAAC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3B8C5-6C98-4D53-90FF-74A836AA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E4FEE-32DB-4260-B7F1-A886104B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A62D8-2D10-445A-9D85-4871A612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74A59-6BA2-49B7-BAD1-CF3B0313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15EAD-E95C-423C-B40B-7B7DAF5F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57FF4-A860-416E-89F3-1416DECC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09EB8-B1F8-42FD-A845-84286DA9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A6BA8-F466-471B-A9C4-C46F8949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355D0-3B0B-4976-A418-A66A3C2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BD9B-7443-4427-9712-3766E833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229EA-17F5-4312-961B-EEB24C6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0CB96-A524-4C65-A809-71916C51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A3BA5-C213-474C-80D4-2A9EDDEB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3B7C5-B860-4549-9136-90CB62AC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8FAC7-F1AC-43DE-AD2E-7D15F633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7D15A-6D3F-4721-AF0B-8EEE1874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0AF58-1FCE-4261-ABC9-D670091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81218-7453-4823-B777-CC57B78D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EC82E-3F0B-4CCB-95EA-50723347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28490-64DF-4176-803F-03153E66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E993-DDE4-45EA-8ED3-A48F3BDC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4B439-2B15-46FA-B930-A5CE7E32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F90AF-3987-49D9-928A-C6935168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21B8A-47C3-4C47-948F-AE74A350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22010-6B1F-4B47-B0F2-EE4F8B62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B2E8C-1231-4AE6-A92D-7154C4F3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7813F-31A6-4C6A-9F81-220CF9DB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6D1C6-D2F5-42A3-9AB9-022CB9B1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B61E0-4755-4C63-82A2-FE7FA6B3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0A66E-20A4-428B-A389-1688BD92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27979-F5D5-42B5-8D4F-D86C6B7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B7FF-472B-4BF7-A7C6-CC9EF349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228A2-D4CC-4AB2-9AE5-0B430DF3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B7900-B3C1-422A-83D2-D25C9133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3C212-0C6A-467E-ACF0-E7905088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83FC8-883D-450B-8CDF-E7327B79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97D3D-2AF8-4EA4-ACD9-6CB2343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75329-2FED-4F47-B2D2-A04D4C94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C93D7-00C8-48A5-A235-BD6189A7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486FE-A100-4FE1-93B6-EF9D15DB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E8436-0A8F-4F8D-BB1D-22FB11EE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78EC7-61DF-4801-A6D0-5FF285B5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C974-7930-4EDE-9615-87EFAE9C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8AC7D-7B65-4D47-87C9-E9BDC6F0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AA17B-5185-4ADB-8F5D-35B7C26D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349B5-B7CD-4391-80F3-D548C900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3F663-E62A-4950-927B-144A29E1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2EC23-049A-4F06-85AD-7C3B26A8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68871-0F3E-48DD-ABAC-3123999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6E208-BF7D-4241-AB2B-97A71118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B661E-0A31-41AA-9565-6684FFC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AE234-54FB-48F9-930C-FAD34A6F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8C212-D4D7-4EB2-A390-ECC0D495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5540-3966-4152-BB4C-B4F7D19D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2A685-1155-4238-810E-FBC84025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28D2A-BA47-4926-BF34-63E489EC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9DE7E-8305-4F07-9C97-7181B5FE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6EB2C-459D-4D91-98B5-2D524124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F686E-E4C4-4BE7-A20A-613765E7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104A5-5614-4940-A928-B60092D8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0E51CE-1DF7-4E89-929C-665BAF3D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F5D62-50E4-44B3-978E-CBC7423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5C9AE-F3AC-4F46-9F90-FAA00C2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ECA2E-500F-4F7E-9DEC-B39B9F6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029D-A705-4DBF-9E57-5135148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C33D5-70D6-49CD-B52D-F86C4EBB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37494-466E-424A-A910-3FB7EFC5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E4604-889D-4C3E-A8C7-AB27906D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054E0-14CE-40B4-BDAF-21A073F2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3E32E-D4D5-4D45-AE9C-034620E1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90FAB-CB6C-471E-9FC6-F1FA7CBE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537E7-848A-4458-A036-07ECF26F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D3134-AA9C-44DB-A9C4-727D9F93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C5869-F146-4419-AFFE-64933219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51402-50C3-4E92-9B3C-54CDB40B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598-D504-45D0-A5D5-2BB8F41D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7944-5310-47DF-9573-A98F535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788DE-FBAA-4640-A3C3-FA9B802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C5EDE-FB55-43BB-93A1-3EFF9D8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E8931-E4BA-4CDC-A026-7C4F8E1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6177E-4683-4C0B-98D3-7557AF68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05386-9DC2-4DE7-B09A-C3C73E7D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231AE-09FF-4AA6-ACAA-6D8CD71F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6C344-6659-47B2-8AA8-6AA28917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BF79C-EEB8-4133-AB93-01F891F6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05606-5BD5-470A-A76A-72BDA155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819EE-F43E-472F-885A-A0C414BB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1BAA-02C9-4EBD-8251-0143FA77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F4E48-A826-454B-8E42-CD0BA861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7029B-840C-4CBF-A0D6-340C0846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10E2C-4EE0-4576-B2B6-E57756EC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3E77A7-A1DA-4FE2-907F-FD1D6E6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37AC7-9C75-4EBA-A8C2-BABEFE6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41693-9739-4F4C-A95E-45C7F14B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E94C1-6653-4577-A236-6F18DDF1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2BCBA-D81C-4E05-810A-F0008891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BA8C6-80A8-4B44-9FA2-F80F3DF5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0136C-F3D6-402B-BFC0-D3BE32FD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E9D8-CAB8-4B54-89FA-B7311CC5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2250F-9765-40FB-A5F6-3996072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2C1490-3B91-4A58-BDC0-4450CC2F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2BF0F-370F-4923-BC34-D7858403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BB416C-93E4-452C-99E9-70CEF97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E79685-52FA-4B0E-89C0-5EBAB4C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CAC12-5D83-48F6-9F4E-E748266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3A5ED-358E-455A-99A1-1C147A9D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7857D-239B-4A74-B759-D40E7E59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77D3D-A147-4187-8D62-BDFE6C00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CD734-6DEB-441E-872B-286F684D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7DA2-1E0F-4C41-81E2-C1035713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18333-63FB-4B2B-ABCD-B4C0C75A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E1B84-7B7B-4C38-8909-ADF7B39C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FC0691-5C55-4427-BE95-224C441F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8B81C5-59C5-46C1-B6D4-EBF9EA22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65CE7C-1617-407A-B903-EAE0BCFB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5F6F66-FE8D-42EB-B52B-4C9098C5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88D90-D02D-4482-9F45-D482047E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BDDD17-524D-4409-8A47-97AB961E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74444-E198-4A66-A4E3-8D49C6F6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24568-954C-465E-A431-8DBA4971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2DB0-0C96-4926-A353-9770AA03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A9C666-87DC-4B72-9637-9771AC73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4237C-D26F-4959-A781-B0569EEE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11D9C-18F3-48F1-9590-F4660D99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B2347-2CB7-4599-8CC3-3A1AC884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0A885E-ADBE-4204-BCD0-91B356E7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F66626-A31B-4EA6-B569-CB467BEA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124394-F091-4599-B442-0C7FA2C5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51428-4D11-4212-8650-2DDF2F2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2CA11-CF83-42CB-A2BD-EB1D4B26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17C9A4-0693-4161-8EF1-2044C868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D320-9F90-411F-A2EF-FCE7905B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74241-5679-4E30-A106-AF4268EB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F065D-444A-4328-81BB-4CFE6139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B383AD-6FF6-4E67-A910-3BBF50F2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743F-5394-4797-80CE-C7AD3E42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B8C6-C18E-4F80-91C4-A5248A08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304D-AE90-4BC5-ACCF-A89F307F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ABDE6-AA58-4FDB-B9A2-DAE2E096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16B-1212-474D-A41B-D29FB1FD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9375-42DC-4CFD-AA8B-6C6467DD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F4D16-60C9-4E4D-B6C3-C40BAEA7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C066-1CE5-4FAC-947B-0BFB9FB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1A6C-F7C8-40D4-9010-EE9E279A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77BDF-8F82-4250-ABCF-E0C2EB13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F48D-25A2-4048-B7E2-92256A0F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F0E2-A6BA-4218-8C98-0B8C02A2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C8A3-132B-44F9-9F7F-63800699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5394-F03E-4A93-ADE6-9428894A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876E-A5CA-4559-B0E0-D711F851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B77-426B-46D4-B8D0-7F918691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D0202-0CE2-4C25-BC62-F9E01A38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C7B7-E68E-40AA-9926-F25A0112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1E8D-88A9-4F3C-8CEE-4CCCF77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AB3A-0552-406E-B950-9B077705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8AA5-AF59-4F7E-96EA-4BBCAD41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5821-8EA1-4EE6-BDEC-2165A0B7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4187A-839A-4A4C-8341-75A79627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634AE-F4F0-4F70-A38E-BF6832C4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FB78-E39C-4853-A68F-F619C1B5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6A3FF-A0C8-4B7F-A5A8-6C125DAA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760-6A13-45E0-B56C-63A87CC7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77C2-9357-432E-A272-A6EC1F2C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C08B-E9BC-4870-A1C7-2A3D57ED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7C060-F67D-4587-8D65-594597E4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1EBB4-6475-48BA-847F-FA69571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A2171-0407-4625-A51D-73E35595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E9F00-3A7F-4249-93F0-ABAE0963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8114-CCEA-4AF1-8707-00FF3D33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7B096-5DDA-4EA7-BAD1-DAFB9B44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EDA86-C8E8-4F91-A4B0-1D146E32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CE55C-6443-4DA8-9A26-BFFB0A4A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6E5-A2DB-428B-9E2F-408FF903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9B31-C908-4E46-ABCE-406637A6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D1F71-E99A-4C1B-B9AC-39462B7F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073F-9F78-47CB-B8B0-20E294F3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C8477-DA6F-44B2-A879-E2C4DB1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209B7-155B-4F6F-B2CC-9164E3A6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7986-4B04-46F8-A4F7-C81756C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0D07C-1FDB-417F-8AAF-FEDF3ECB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9313F-04D6-4A03-8214-47370A0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1DCB7-259D-4DBC-AC4F-E31E29A9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8CED-FB1B-4BE5-9396-2D1434C6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EA1-F4EB-426D-8A78-00A900A4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D4AF3-2100-43FE-AC3C-8E0F1F9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A994-344C-43C4-BF23-835E6264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09F7E-8EFE-40A2-B94A-FDFF47F7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14CB7-74CB-44E1-8EAD-C2D2C22D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0BD5E-1972-4BEF-BD31-10E9DFAC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772F4-AE27-4836-A4D6-344560E6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F129E-73BF-4701-86A1-7803F6E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4968-DFF5-4777-8C33-4D086B15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D7315-A90D-4676-91C3-3DBC7C4B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E0228-229F-4579-AAF0-28BE72EA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058-245B-4197-89A6-0DF3350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CF53D-A89A-4AEE-86E7-7B80622D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4C31-DFD2-447E-8A56-7D10EE0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E95A9-FCA0-4C00-8384-D2FD32DB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47EEA-01CC-471D-BC64-E82D14F7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6CC2E-326A-4D6F-8B71-A561CD87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D360B-BD5F-4BC5-9A4C-11A6675E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2B02C-8CEE-4341-B850-0FD27CA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41B6-21BF-4164-87C6-3BA28316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3125B-6253-48D6-82FE-4D74BCE3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52C83-183D-410B-8217-BA5E17ED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59F-9BFB-4F77-9C8B-B2B58952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9D4A9-3B87-4A5F-B604-65B2AE2E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B3EAE-C193-456C-81B8-8D9E9D9F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E70BC-5CA3-4BC7-87DF-B025A56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73FD7-D782-4898-BCBD-CAE097E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DC27A-7555-4382-B7DC-9CABAEB8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89C31-03D8-4A15-A73A-A781D9B2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E8ADA-A0BD-4E11-8746-557F3AA6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11603-CCDE-4828-A2C8-6B84B31B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D1748-21C4-48B6-8E99-B0914BBB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E00DD-0F2B-4E02-9AF1-C91B51CF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C6B0-2584-4DC4-89D8-0FB434FA8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4E81-605D-4909-8043-9A66F379A9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8942-E904-42FE-BE10-2A7D1D733B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916A-6373-41BD-BD2B-CFAEC6D8FC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52B1-3D51-4068-9B41-3228E6D6B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0C57-090F-4233-B55F-3E71CDDC59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5B4C-1A69-4FAA-97C1-B9C030A3B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A464-5F06-4FEB-9D50-41EEBF3AB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16FF-EDDB-4358-A10E-657749F23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DA3B-31FF-483A-B689-C20416C9AE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20EA-840D-437E-85E3-5CC9D814C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672E-FD21-468C-B85C-BF80CB8318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E9AF-DF17-4406-84F6-B134440030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677A-3994-4C00-ABAD-397CAC4310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A627-8C64-46FC-A578-A9BD56015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95FA-86C1-4C0B-868D-87D05411B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23A5-3B68-4B10-98FE-ADB048762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8FF6-89C4-42F4-8FCD-66C8659119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D7D8-A766-405A-BAE8-6512922620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63EF-35C7-499E-B381-339705D515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5ABC-2FB1-4A53-A803-08988A985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7D30-C469-4792-8CEE-4DC1721394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5EF4-F01D-468B-8E11-8E660E18A9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B201-5F12-4226-B3CC-7FFDF06EB4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BA0B-2342-4123-9E9E-31CE438FED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7189-3923-414C-8030-A38F05339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0BFB-7C03-4BC8-9F2D-525198E36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770F-0127-4261-8645-709AE18B3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8F9D-8D09-4E8B-8C5D-F8019FAB30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E59A-3809-40FE-B1CD-49EF46CEF0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57FC-8329-4077-BB69-37AD60E93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5804-C8B1-437B-BC6D-B79B93D951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58CB-43E8-4288-AD97-E2096A0CC6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6806-AF6F-42E1-81A1-D583348D9D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B736-8D2D-437C-92AB-0028372B6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D342-CA67-481B-A707-58693EE79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9E31-E425-43F7-82D4-2FE1C434F4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9091-7F6C-43C5-870C-B0E5232B2D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D2F2-95A7-4763-B1E1-841A54C1F5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B7AA-E7C6-4879-966B-7F61FDBA2D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71640" y="3181320"/>
            <a:ext cx="3600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54080" y="2168640"/>
            <a:ext cx="8940600" cy="26082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3"/>
          <a:stretch/>
        </p:blipFill>
        <p:spPr>
          <a:xfrm>
            <a:off x="417600" y="2709720"/>
            <a:ext cx="86184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361800" y="1395360"/>
            <a:ext cx="8420400" cy="4067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101600" y="3514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1116000" y="47242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500040" y="2252520"/>
            <a:ext cx="8142480" cy="2352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633240" y="1900080"/>
            <a:ext cx="7875720" cy="305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33200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33200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1332000" y="455148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08000" y="1996920"/>
            <a:ext cx="8993160" cy="29322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755640" y="3630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5062680" y="3630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00364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826920" y="4653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776160" y="971640"/>
            <a:ext cx="7591680" cy="4914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2050920" y="1498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2050920" y="2017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2050920" y="2521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97964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2022480" y="357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" descr=""/>
          <p:cNvPicPr/>
          <p:nvPr/>
        </p:nvPicPr>
        <p:blipFill>
          <a:blip r:embed="rId1"/>
          <a:stretch/>
        </p:blipFill>
        <p:spPr>
          <a:xfrm>
            <a:off x="833400" y="1762200"/>
            <a:ext cx="7477200" cy="33336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1519200" y="234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1547640" y="2867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5"/>
          <a:stretch/>
        </p:blipFill>
        <p:spPr>
          <a:xfrm>
            <a:off x="154764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6"/>
          <a:stretch/>
        </p:blipFill>
        <p:spPr>
          <a:xfrm>
            <a:off x="1547640" y="4437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14:4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